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7963-F031-442A-944E-3B8C6CD2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75080-1C99-4D8C-A383-403B541C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5194-0A48-4B0E-BC8E-E04F6447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E3BB-1A74-4890-9B4B-12EBA75E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4CC9-FFD6-4E9F-9E14-D718445C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CA6E-4DEA-46E7-9ED6-9E954B5E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8C0A-2281-4A86-8DF5-506A77AB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3CBF-2B43-4C34-AA75-EC76A5D7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908E-125A-4493-BDB8-A3D069C4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0810-13D1-4748-8B04-E13D2EC1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B746-956F-4D8A-B4E2-A4FCC7A8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C5DC-A97D-41B9-A70F-04BF7265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7531-B1DA-4571-97CF-13CF133F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7F9C-0377-429F-B33E-D9262429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50F8-7B01-4425-81F1-34D4DA4A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BD78-9BD3-42E5-8254-E514A298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5473-0616-4D7E-BF0B-639B61A1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7F347-9CC9-48A1-88B4-E1C668BD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4622A-16BE-423C-832D-60B8CC6B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2C72-167F-4445-B402-608CE01C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28DD-866B-4E3F-8E9B-1E6513BF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2A14B-6264-4F80-954B-02386D9A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6BC0B-3B66-4466-B4D4-729374AF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8E1D-5FDE-44B3-8ADA-048C0E1A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28D4-2D7E-4109-80F0-2E34FB8D3B6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0322-1A73-4C86-A130-4B2A1EDAE5F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72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.41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Мен Исус е възлюбил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лко благ към мен е би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да бъда аз готов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приема таз люб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2053440"/>
            <a:ext cx="1008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обича, мене обич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ме нарича и Свое агънц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627200"/>
            <a:ext cx="10082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Толкоз ме обича Той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че небесния покой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Той за мен презря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слезе тука и умря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2053440"/>
            <a:ext cx="1008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обича, мене обич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ме нарича и Свое агънц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379520"/>
            <a:ext cx="9577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Горе в слава при Отц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люби малките деца;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е са грешни - Той е благ;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е са слаби - Той е як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2053440"/>
            <a:ext cx="1008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обича, мене обич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ме нарича и Свое агънц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379520"/>
            <a:ext cx="9577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4. Ако тука слушам аз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оз любезен Негов глас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мене Той ще прибер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горе в светлото небе!</a:t>
            </a:r>
            <a:r>
              <a:rPr b="0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541440" y="1962000"/>
            <a:ext cx="10082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35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Исус обича, мене обича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ой ме нарича и Свое агънце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7-07T17:05:29Z</dcterms:modified>
  <cp:revision>209</cp:revision>
  <dc:subject/>
  <dc:title>Slide 1</dc:title>
</cp:coreProperties>
</file>